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46E-1C18-4856-A2C5-40199293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7EB-C39E-4732-A2EA-C8DF0C23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D3F-8395-4F35-9F03-8FD2026F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61A-6A01-4C75-9EC1-2F72B1F1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B968-EA29-4B43-9263-E94CCA34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C2AC-C43F-4583-895E-08E9FE27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E525-F347-42C6-A535-4E908928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797B-0AD2-41FF-872B-566B07FB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E711-419E-4F18-80FB-AA0D6C8D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BBC7-7BC8-4EF9-A8AB-59481163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4643-F508-451B-A70F-C99E0B28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6EE-E34D-4F6E-9AD0-2A507A1D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2447-6F87-426D-AAAD-FC408433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7FEF-9DFD-4FB8-87F5-44430998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E568-D22E-44AB-8043-9B8B1CD7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6852-236C-408D-8EBE-E286F6B8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D375-92F0-4435-A790-9843F122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175-1220-421F-8CCD-AE084BE1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21E5-41AE-472D-B6A5-9FEF5175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682-C7F8-4B09-BB8A-CF31F2DB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A58-A6A9-43B6-9495-8BA04991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2D7-CB7E-4894-ABB7-45C76D11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AC5-6ED1-40AE-9A52-7BB24AFB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8F3-12F2-459D-83B2-C8FB8482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8D93-97B2-44D0-AAD6-5C79C3E3A7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A327-A364-4211-8236-C0601BEBCF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86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ir, We Would See Jesus”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The Life of Christ, Part 2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7391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0, Lesson 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 16:12-14; Luke 24:13-43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20:24-31, John 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88-1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925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Appears To Seven Disciples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John 21:1-14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the apostles went f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caught no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appeared on the be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suggested that they cast the net one more time to find the cat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then ate with Jes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925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Questioned Peter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John 21:15-17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times He asked, “Simon, do you love me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 responded three times, “Y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told him to go feed His sh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aid, “Follow Me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Note:  The writer of the book reveals himself to us in 21:20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925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He Appears To Others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1 Cor. 15:6-7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wrote years after the resurrection  that over five hundred saw Jesus at one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of those were still alive as Paul penned the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said that Jesus appeared to James and then to all of the apost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appeared to Paul on the road to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ppearances After The First Day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048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e eleven disciples in the upper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seven disciples fi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e eleven apostles on a moun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1828800"/>
            <a:ext cx="1981080" cy="45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a of Gali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li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828800"/>
            <a:ext cx="2133720" cy="43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ing Sun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time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time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ppearances After The First Day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200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more than five hund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J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His disciples at His asc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1828800"/>
            <a:ext cx="1981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li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mas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828800"/>
            <a:ext cx="213372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time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time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y days after resur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ral years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925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nd the Next Lesson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eat Commi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xaltation of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isciples On The Road To Emmaus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rk 16:12-13; Luke 24:13-32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joined up with two disci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d not recognize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talking about the crucifi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“hoped” Jesus would have redeemed 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ld Him what the women had repor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taught them from the Scrip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te with them, they recognized Him, and He va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e Two Disciples Make A Report 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rk 16:12-13; Luke 24:33-35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wo men returned to Jerusa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nd the eleven and others gath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ed that Peter had also seen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orted their experiences on the road and eating with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sciples still did not believe He had risen from the d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Appears To Peter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Luke 24:33-35; 1 Cor. 15:5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ying, “The Lord has really risen and has appeared to Simon.”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Luke 24:3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He appeared to Cephas, then to the twel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”  (1 Cor. 15: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other information avail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Appears To His Disciples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rk 16:14; Luke 24:33-35; John 20:19-23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he first day of the week, they were eating with the door loc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just appeared in their mid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reproached them for their unbelief and hardness of heart because they had not believed those who had seen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homas was not the only “doubter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Appears To His Disciples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rk 16:14; Luke 24:33-35; John 20:19-23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showed them His wounds to prove that He was flesh and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te food to further prove that He was a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breathed on them and said, “Receive the Holy Spir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commission:  “…as the Father has sent Me, I also send you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Appears To Thomas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John 20:19-23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told by the others, ”We have seen the Lor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mas said that unless I see Him, “I will not believ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the unbelief of Thomas any different than the unbelief of the other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ppearances On The First Day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Mary Magdale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the other w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the two men going to Emma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imon P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ten apostles and other disci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esus Appears To The Eleven</a:t>
            </a:r>
            <a:br>
              <a:rPr sz="36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John 20:26-31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ostles, including Thomas, were gathered on the second first day of the week after the resurr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appeared again in a locked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showed Thomas the w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mas: “My Lord and my God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aid, “Blessed are they who did not see, and yet believed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21:49:08Z</dcterms:created>
  <dc:creator>Don Vines</dc:creator>
  <dc:description/>
  <dc:language>en-US</dc:language>
  <cp:lastModifiedBy>Don Vines</cp:lastModifiedBy>
  <dcterms:modified xsi:type="dcterms:W3CDTF">2006-09-21T04:12:19Z</dcterms:modified>
  <cp:revision>17</cp:revision>
  <dc:subject/>
  <dc:title>“Sir, We Would See Jesus” The Life of Christ, Part 2</dc:title>
</cp:coreProperties>
</file>